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767-D72A-42A5-BD80-C7F5140F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D52-121C-4E3D-8C2F-F77CD4CD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EBA-F2D2-41D6-983B-59745D38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EAF-235E-4816-8169-6B88E748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7B1-05B7-4C90-8355-485EB4A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AF3-9155-4907-BC4A-63DCACA0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228-D235-4E5D-BA8C-13D7D67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21F-66B7-4D2D-82AB-9C2B0574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717-7CFB-44E0-927E-2BFEA40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E82-430E-4B98-8A8B-521BDDD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60F-4BDD-4EE5-9B83-4F080B54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AB7-590F-435E-BAE7-E346889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E092-89BE-4867-BC32-83897F1F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geu9Vem6hHGjkAGcxXNyoA;_ylu=X3oDMTBzb3JwbzQ3BHNlYwNzYwRjb2xvA2FjMgR2dGlkA00wMDFfODk-/SIG=1iqv6us6o/EXP=1202318558/**http%3A//images.search.yahoo.com/images/view%3Fback=http%253A%252F%252Fsearch.yahoo.com%252Fsearch%253Fei%253DUTF-8%2526p%253Dpictures%252Bof%252Bamerican%252Bmoney%2526vm%253Dr%26w=380%26h=285%26imgurl=www.istockphoto.com%252Ffile_thumbview_approve%252F455084%252F2%252Fistockphoto_455084_money_fan.jpg%26size=48.2%26name=istockphoto_455084_money_fan.jpg%26rcurl=http%253A%252F%252Fwww.istockphoto.com%252Fimageindex%252F455%252F0%252F455084%26rurl=http%253A%252F%252Fwww.istockphoto.com%252Fimageindex%252F455%252F0%252F455084%26p=american%2Bmoney%26type=jpeg%26no=3%26tt=79%252C55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newable Energy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ass is a renewable energy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Biomass is renewable it pollutes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3360960"/>
          </a:xfrm>
          <a:prstGeom prst="rect">
            <a:avLst/>
          </a:prstGeom>
          <a:ln w="0">
            <a:noFill/>
          </a:ln>
        </p:spPr>
      </p:pic>
      <p:sp>
        <p:nvSpPr>
          <p:cNvPr id="44" name="Tree"/>
          <p:cNvSpPr/>
          <p:nvPr/>
        </p:nvSpPr>
        <p:spPr>
          <a:xfrm>
            <a:off x="1828800" y="2819520"/>
            <a:ext cx="1523880" cy="15811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5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650"/>
                            </p:stCondLst>
                            <p:childTnLst>
                              <p:par>
                                <p:cTn id="4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650"/>
                            </p:stCondLst>
                            <p:childTnLst>
                              <p:par>
                                <p:cTn id="5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n the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provides 3% of the united state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 depend on fossil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can still pollute the air but not as much as 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0" b="28848"/>
          <a:stretch/>
        </p:blipFill>
        <p:spPr>
          <a:xfrm>
            <a:off x="304920" y="182880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1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1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6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800"/>
                            </p:stCondLst>
                            <p:childTnLst>
                              <p:par>
                                <p:cTn id="92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iomass is released carbon dioxide is released into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erials are very expen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ww.istockphoto.com/file_thumbview_approve/455084/2/istockphoto_455084_money_f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581280" cy="267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162920" y="495288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167652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52388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4120" y="487692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57:03Z</dcterms:created>
  <dc:creator>default</dc:creator>
  <dc:description/>
  <dc:language>en-US</dc:language>
  <cp:lastModifiedBy>default</cp:lastModifiedBy>
  <dcterms:modified xsi:type="dcterms:W3CDTF">2008-02-07T16:28:00Z</dcterms:modified>
  <cp:revision>7</cp:revision>
  <dc:subject/>
  <dc:title>Slide 1</dc:title>
</cp:coreProperties>
</file>